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28E2-BF35-416A-9526-A56B5E8EE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3B75-A9D2-4ED8-A878-7830FB7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D192-D7AC-40C5-AF3F-CA58781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7BF0-5CF5-43EF-843A-03D61EA22B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43D5-4CC3-4801-B261-36F141D7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CD07-96ED-479E-8103-5F288669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3B3E-7AE6-4C90-ADE3-E4458416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6FF8-4C22-4630-B0A7-6A98647A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C67E-144F-43A8-9CCF-8D212395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442D-9FAD-4064-9F46-87BE39C3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6AFE-DEC1-4917-A9EC-E5DDE465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B4E5-E7D3-4A71-9227-E8D5E28B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3480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2D81-C2B0-4B19-8DF8-B3398588DEEF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2006/05/23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 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20560" y="2080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 R A F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524360" y="142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7451280" y="115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8748360" y="43164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675280" y="404640"/>
            <a:ext cx="360360" cy="333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197000"/>
            <a:ext cx="2376360" cy="826920"/>
          </a:xfrm>
          <a:prstGeom prst="rect">
            <a:avLst/>
          </a:prstGeom>
          <a:solidFill>
            <a:srgbClr val="d1c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BMG PH 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usiness Operation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	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g J Liu (depu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2492280"/>
            <a:ext cx="1368360" cy="792360"/>
          </a:xfrm>
          <a:prstGeom prst="rect">
            <a:avLst/>
          </a:prstGeom>
          <a:solidFill>
            <a:srgbClr val="d1c1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OS 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492280"/>
            <a:ext cx="1368360" cy="792360"/>
          </a:xfrm>
          <a:prstGeom prst="rect">
            <a:avLst/>
          </a:prstGeom>
          <a:solidFill>
            <a:srgbClr val="d1c1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OS 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ng J Li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276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. v. Kemen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.-P. Höckenre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, controlling 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. Lutterb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process, support and tool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. Li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678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Business Operations Support</a:t>
            </a:r>
            <a:br>
              <a:rPr sz="2800"/>
            </a:br>
            <a:r>
              <a:rPr b="1" lang="de-DE" sz="2800" spc="-1" strike="noStrike">
                <a:solidFill>
                  <a:srgbClr val="3a0e66"/>
                </a:solidFill>
                <a:latin typeface="Minion"/>
              </a:rPr>
              <a:t>BMG PH RD BO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227640" y="6165720"/>
            <a:ext cx="1295280" cy="246240"/>
            <a:chOff x="6227640" y="6165720"/>
            <a:chExt cx="1295280" cy="246240"/>
          </a:xfrm>
        </p:grpSpPr>
        <p:sp>
          <p:nvSpPr>
            <p:cNvPr id="66" name=""/>
            <p:cNvSpPr/>
            <p:nvPr/>
          </p:nvSpPr>
          <p:spPr>
            <a:xfrm>
              <a:off x="6227640" y="6165720"/>
              <a:ext cx="35856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86200" y="6165720"/>
              <a:ext cx="93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Work Top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1672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797360"/>
            <a:ext cx="1368360" cy="79236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, controlling and 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 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789360"/>
            <a:ext cx="1368360" cy="792000"/>
          </a:xfrm>
          <a:prstGeom prst="rect">
            <a:avLst/>
          </a:prstGeom>
          <a:solidFill>
            <a:srgbClr val="ccec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process, support and tool defin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bd.</a:t>
            </a:r>
            <a:r>
              <a:rPr b="1" lang="en-US" sz="10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2360" y="587700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2b5d"/>
                </a:solidFill>
                <a:latin typeface="Arial"/>
                <a:ea typeface="新細明體"/>
              </a:rPr>
              <a:t>*) Organisation not existent today in Asia. Tbd. during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A340-7E7C-44D5-9266-2E6B69242FA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Brandl Nicole</dc:creator>
  <dc:description/>
  <dc:language>en-US</dc:language>
  <cp:lastModifiedBy> </cp:lastModifiedBy>
  <dcterms:modified xsi:type="dcterms:W3CDTF">2006-05-24T10:01:55Z</dcterms:modified>
  <cp:revision>67</cp:revision>
  <dc:subject/>
  <dc:title>PHE R&amp;D</dc:title>
</cp:coreProperties>
</file>